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3EB-AF4A-42CF-958A-39CBBDB5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B23-7332-40D3-B5DA-E2D8A910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1FD-9753-4B13-A7D9-E989C0ED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94B-35A5-42E1-85F1-25E5470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512-ABB0-424A-A314-F8935E43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AB3-AB6B-4A23-8662-8F7ACB29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76F-D569-404C-B669-584F29D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336-5913-4A0C-AD3D-6883254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15B-B0C0-40E4-A089-80587B71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E08-5F5B-4675-9F1F-1E49B10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48D-E66E-4E4C-9291-3BEF262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AE8-D9C5-409D-B8B6-21BB861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0AD-C066-41CA-A3DC-CDF4042D3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013-04-16 08.43.3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013-04-16 08.43.4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2013-04-16 08.43.5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2013-04-16 08.44.4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2013-04-16 08.44.5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2013-04-16 08.45.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5:58:33Z</dcterms:created>
  <dc:creator>rmburdet</dc:creator>
  <dc:description/>
  <dc:language>en-US</dc:language>
  <cp:lastModifiedBy>rmburdet</cp:lastModifiedBy>
  <dcterms:modified xsi:type="dcterms:W3CDTF">2013-04-16T15:59:45Z</dcterms:modified>
  <cp:revision>1</cp:revision>
  <dc:subject/>
  <dc:title>Slide 1</dc:title>
</cp:coreProperties>
</file>